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BB7B-E26C-4384-9F58-49F475EF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7903-0D39-4B88-90A2-95C08F02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F38B-9308-4472-B0AA-4A56CE4F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9CB4-70DE-42F4-8DCA-D0CD81565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F28E-14AA-47E8-A475-DDA5F54C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CB20-8214-4424-9A63-295FE5DB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9C4F-9D4E-41DC-B7A3-A6A37D82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5152-D104-4222-B584-2A96174F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E4B8-DA59-4F7E-9AA9-BFC92700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DDC6-8B54-460D-9A8C-6338C373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AD23-88A5-444B-AFEF-75EE1879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76C5-E5E8-4DB1-B1F9-D81DECA2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3D41-1CBA-43D5-80E6-B9D8F56F3C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8480" y="1600200"/>
            <a:ext cx="7081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revented Frac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mo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he Expose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9213"/>
          <a:stretch/>
        </p:blipFill>
        <p:spPr>
          <a:xfrm>
            <a:off x="685800" y="609480"/>
            <a:ext cx="74674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838080" y="914400"/>
            <a:ext cx="78487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838080" y="685800"/>
            <a:ext cx="7696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44374"/>
          <a:stretch/>
        </p:blipFill>
        <p:spPr>
          <a:xfrm>
            <a:off x="914400" y="457200"/>
            <a:ext cx="7467480" cy="2819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0" t="61309" r="0" b="28101"/>
          <a:stretch/>
        </p:blipFill>
        <p:spPr>
          <a:xfrm>
            <a:off x="914400" y="3276720"/>
            <a:ext cx="7467480" cy="1066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14400" y="4343400"/>
            <a:ext cx="7467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70434" r="0" b="22543"/>
          <a:stretch/>
        </p:blipFill>
        <p:spPr>
          <a:xfrm>
            <a:off x="914400" y="3276720"/>
            <a:ext cx="7467480" cy="838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0" t="0" r="0" b="44374"/>
          <a:stretch/>
        </p:blipFill>
        <p:spPr>
          <a:xfrm>
            <a:off x="914400" y="457200"/>
            <a:ext cx="7467480" cy="2819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914400" y="4114800"/>
            <a:ext cx="7467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44374"/>
          <a:stretch/>
        </p:blipFill>
        <p:spPr>
          <a:xfrm>
            <a:off x="914400" y="914400"/>
            <a:ext cx="7467480" cy="2819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53311" r="0" b="24496"/>
          <a:stretch/>
        </p:blipFill>
        <p:spPr>
          <a:xfrm>
            <a:off x="914400" y="3657600"/>
            <a:ext cx="74674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59357" r="0" b="35261"/>
          <a:stretch/>
        </p:blipFill>
        <p:spPr>
          <a:xfrm>
            <a:off x="914400" y="3429000"/>
            <a:ext cx="7467480" cy="609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rcRect l="0" t="0" r="0" b="44374"/>
          <a:stretch/>
        </p:blipFill>
        <p:spPr>
          <a:xfrm>
            <a:off x="914400" y="685800"/>
            <a:ext cx="7467480" cy="2819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914400" y="4038480"/>
            <a:ext cx="74674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64764" r="0" b="20866"/>
          <a:stretch/>
        </p:blipFill>
        <p:spPr>
          <a:xfrm>
            <a:off x="914400" y="3276720"/>
            <a:ext cx="7467480" cy="1295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0" t="0" r="0" b="44374"/>
          <a:stretch/>
        </p:blipFill>
        <p:spPr>
          <a:xfrm>
            <a:off x="914400" y="457200"/>
            <a:ext cx="7467480" cy="2819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914400" y="4572000"/>
            <a:ext cx="7467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63249"/>
          <a:stretch/>
        </p:blipFill>
        <p:spPr>
          <a:xfrm>
            <a:off x="1066680" y="1523880"/>
            <a:ext cx="7315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762120" y="60948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44711"/>
          <a:stretch/>
        </p:blipFill>
        <p:spPr>
          <a:xfrm>
            <a:off x="1295280" y="762120"/>
            <a:ext cx="6934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533520" y="685800"/>
            <a:ext cx="8076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066680" y="762120"/>
            <a:ext cx="75438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0" b="7761"/>
          <a:stretch/>
        </p:blipFill>
        <p:spPr>
          <a:xfrm>
            <a:off x="838080" y="609480"/>
            <a:ext cx="7543800" cy="5639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705720" y="5638680"/>
            <a:ext cx="15238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0" r="0" b="21792"/>
          <a:stretch/>
        </p:blipFill>
        <p:spPr>
          <a:xfrm>
            <a:off x="685800" y="609480"/>
            <a:ext cx="76960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9463" r="0" b="75879"/>
          <a:stretch/>
        </p:blipFill>
        <p:spPr>
          <a:xfrm>
            <a:off x="914400" y="3429000"/>
            <a:ext cx="7620120" cy="1447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914400" y="4876920"/>
            <a:ext cx="7543800" cy="1523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rcRect l="0" t="0" r="0" b="44374"/>
          <a:stretch/>
        </p:blipFill>
        <p:spPr>
          <a:xfrm>
            <a:off x="914400" y="533520"/>
            <a:ext cx="7620120" cy="28954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81080" y="5029200"/>
            <a:ext cx="228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05120" y="4952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0" t="25260" r="0" b="61647"/>
          <a:stretch/>
        </p:blipFill>
        <p:spPr>
          <a:xfrm>
            <a:off x="838080" y="1447920"/>
            <a:ext cx="7467840" cy="1371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14400" y="2819520"/>
            <a:ext cx="7391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0" t="39141" r="0" b="47252"/>
          <a:stretch/>
        </p:blipFill>
        <p:spPr>
          <a:xfrm>
            <a:off x="914400" y="1295280"/>
            <a:ext cx="7467480" cy="1447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14400" y="2743200"/>
            <a:ext cx="7467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53236" r="0" b="37376"/>
          <a:stretch/>
        </p:blipFill>
        <p:spPr>
          <a:xfrm>
            <a:off x="457200" y="1981080"/>
            <a:ext cx="8001000" cy="990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981080" y="2971800"/>
            <a:ext cx="51818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0" t="62886" r="0" b="25360"/>
          <a:stretch/>
        </p:blipFill>
        <p:spPr>
          <a:xfrm>
            <a:off x="609480" y="1447920"/>
            <a:ext cx="8077320" cy="1371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9480" y="2819520"/>
            <a:ext cx="807732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0" t="0" r="0" b="22506"/>
          <a:stretch/>
        </p:blipFill>
        <p:spPr>
          <a:xfrm>
            <a:off x="762120" y="533520"/>
            <a:ext cx="761976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84879"/>
          <a:stretch/>
        </p:blipFill>
        <p:spPr>
          <a:xfrm>
            <a:off x="762120" y="990720"/>
            <a:ext cx="7467480" cy="914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0" t="52122" r="0" b="9213"/>
          <a:stretch/>
        </p:blipFill>
        <p:spPr>
          <a:xfrm>
            <a:off x="762120" y="1828800"/>
            <a:ext cx="7467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10978"/>
          <a:stretch/>
        </p:blipFill>
        <p:spPr>
          <a:xfrm>
            <a:off x="762120" y="609480"/>
            <a:ext cx="76197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914400" y="685800"/>
            <a:ext cx="7391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12192"/>
          <a:stretch/>
        </p:blipFill>
        <p:spPr>
          <a:xfrm>
            <a:off x="609480" y="609480"/>
            <a:ext cx="7620120" cy="5486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981080" y="4876920"/>
            <a:ext cx="121932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8649"/>
          <a:stretch/>
        </p:blipFill>
        <p:spPr>
          <a:xfrm>
            <a:off x="762120" y="685800"/>
            <a:ext cx="7696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10715"/>
          <a:stretch/>
        </p:blipFill>
        <p:spPr>
          <a:xfrm>
            <a:off x="533520" y="457200"/>
            <a:ext cx="78483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90720" y="68580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6T15:20:23Z</dcterms:modified>
  <cp:revision>213</cp:revision>
  <dc:subject/>
  <dc:title>Slide 1</dc:title>
</cp:coreProperties>
</file>